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C503-BA54-4F1D-9578-4D7CF1BA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C751-EBDD-4EEE-BCA8-66A2E693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9082-4639-4358-9C12-B2A87BB9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AA3B-EDBF-4ED2-A485-38D78D57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0C1F-6B6A-416F-A32E-1F8959C5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2679-B31F-4263-A899-1BFBAA9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838-750C-4F40-879D-9481AD5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9A61-94C7-43CA-B11F-C0E88BDC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F84-A1FC-493E-8285-002FFED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50B-EAE5-47A2-B5F2-728E6B06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37F-2A96-4AE5-9965-F0D234A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B3CD-4189-42AC-B497-07B55B1E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3549-09C6-4FFC-81A4-81F3C89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E75D-ABF6-472A-8ED4-F11C7D3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A77-2997-430C-8E22-3DC970D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09D-3A4C-4528-9219-908AADB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FCE-7F2A-4BA9-ABC5-82D527AB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FA57-4300-4153-9DBE-C8954C2A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51C4-D52A-4610-8791-08F309E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68F4-7196-4CEC-A1DB-368EBEC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345D-901C-48F6-AC5A-448C591B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95E4-8015-48FF-B9C7-12F399A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A5C4-12D6-4CA8-B462-C6DC10B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29F9-F0A4-42E5-8F9E-D3EF446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668-0683-4D86-B97C-2087C42CE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DA4-2B48-4D25-9518-41B28519ED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Aminosäure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on: Imke Spö. und J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stell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m Abbau der Proteine zu einem Aminosäuregemisch, die durch spezifische Verfahren isoliert werden 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der Umsetzung von Halogencarbonsäuren mit Ammoni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s </a:t>
            </a: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Miller-Experiment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zeigte, wie die Aminosäuren und andere Moleküle zu Beginn der Erdgeschichte entstanden sein könn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ndprodukte: Teer, unbedeutende Carbonsäuren, Aminosäuren (u.a. Glycin und Alani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veränderter Zusammensetzung auch Kohlenhydrate, Nucleotide und Fettsäu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969 fand man dieselbe Aminosäurezusammensetzung in einem Meteoriten in Australi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1640" y="5589720"/>
            <a:ext cx="2592360" cy="790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 wird erhit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3573360"/>
            <a:ext cx="208908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dampf steigt 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45080" y="476280"/>
            <a:ext cx="35989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aktionsk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than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125360"/>
            <a:ext cx="2521080" cy="79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tstehung der Aminosäu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NA 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nd zwei in helixform umeinander gewundene Doppelstr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steht aus Basen (Adenin, Guanin, Cytosin, Thymin), Zucker und Phosph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peichert sämtliche für jeden Menschen individuelle Erbinformationen, aufgrund dessen ergeben sich die vielen wissenschaftlichen Einsatzgebi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riminalbi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aterschfts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NA-Fingerprint-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rchäologie und Evolutionsforsch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s Nahrungsergänzungsmittel für Sport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ielen lieben Dank für eure Aufmerksamke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 Schlu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nktio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scher Aufba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teilung der Grup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äure-Base-Eigenscha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elle Aminosäu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stel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A /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ssenschaftlicher Nut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rganische Säu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arbonsäuren deren funktionelle Gruppen sowohl eine Carboxyl- als auch eine Aminogruppe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sten Bausteine der Prote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0 verschiedene Aminosäuren in den Protei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xistieren auf der Erde bereits seit 3 Mrd. Jahren (auch in Mondgestein und Meteori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ktio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fbau von Peptiden und Proteinen, aus denen wiederum Muskulatur, Zellwände, Hormone, Enzyme etc. aufgebau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der Neurochemie spielen Aminosäuren und ihre Derivate eine wichtige Rolle als Neurotransmi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uffer= sind in der Lage den pH-Wert des Gewebes zu regul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scher Aufba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äure mit einer Carboxyl- und Aminogru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infachste ist das Gl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Um daraus weitere aufzubauen, wird ein H-Atom am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-C-Atom abgespalten und durch eine Seitenkette (-R) ersetz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Seitenkette bestimmt die chem. und physikalischen Eigenschaften der Aminosä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nteilung der Grupp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Neutrale Aminosäuren: Glycin, Alanin, Serin, Threonin, Valin, Leucin, Isoleuc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aure Aminosäuren enthalten zusätzlich eine Carboxylgruppe. Zu ihnen gehören: Arpartat, Asparagin, Glutamat, Glutam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Baische Aminosäuren enthalten zusätzlich eine Aminogruppe. Zu ihnen zählen: Arginin, Lysin, Hydroxylys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olar: (hydrophil) Seitenkette enthält eine Hydroxyl- oder Sulfhydrylgruppe z.B. Ser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Unpolar: (hydrophob) Seitenkette enthält Kohlenwasserstoffreste z.B. Al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äure-Base-Eigenschaf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Ungeladener Zustand existiert praktisch nic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ind Zwitterionen (Ampholyte), d.h. reagieren sowohl als Base als auch als Sä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durch Pufferfunktion des pH-Wertes im Kör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rhöhung des pH-Wertes: Wasserstoffion wird an die 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Gruppe abgegeben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positiven Kation (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3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Erniedrigung des pH-Wertes: Abgabe eines Wasserstoffions der COOH Grupp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negativ geladenen Anion (COO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Weitere wichtige Aufgabe,  gerät der pH-Wert des Gewebes nur minimal aus dem Gleichgewicht, werden viele Körperunktionen beeinträchtigt → T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748720" cy="2820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692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äure-Base-Verhal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sentielle Aminosäu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nnen vom Körper nicht selbst synthetisiert werden, sondern müssen über die Nahrung aufgenommen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i-essentiell: müssen nur bei erhöhtem Bedarf (z-B. Schwangerschaft) zugefü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gel führt zu einem Stocken der Eiweißsyn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bedrohliche Mangelerschein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05:57Z</dcterms:created>
  <dc:creator>Imke</dc:creator>
  <dc:description/>
  <dc:language>en-US</dc:language>
  <cp:lastModifiedBy>Imke</cp:lastModifiedBy>
  <dcterms:modified xsi:type="dcterms:W3CDTF">2006-11-16T05:26:01Z</dcterms:modified>
  <cp:revision>15</cp:revision>
  <dc:subject/>
  <dc:title>Aminosäuren</dc:title>
</cp:coreProperties>
</file>